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D40A-A052-45A4-9CF5-5BFDB368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BEF-4C27-409B-8290-AE2DBCA6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B79-E25F-415E-9875-690D3B90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2FE5-AEE1-4E82-96FB-19978063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A055-4646-4299-BF1A-B95AD898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39D4-760E-4236-9E44-847FE057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FACA-20D7-4A10-B035-DB27C752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7ABF-79A8-4FE2-AC89-D74E03F2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E26F-FAC1-486C-BBE9-8643E8CD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FF9E-5937-4B61-877C-9D0BC5F0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7518-58DD-4493-AF72-D6F495A2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C68-BF89-4CA5-9199-E65DDB50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04E8-24AA-4AC3-96FD-13977D7F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AC3B-EDAF-4CCA-9993-2B0B6E6B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D878-31F8-431B-BF90-96238653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2FFE-FA70-40D2-94DA-195C9964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405C-F464-4582-AA31-4E529CAD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9B5-D2A9-4CAA-A741-12188975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CA2A-E700-4DC2-91C9-4938A0EC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E2B-A218-482D-9B06-C8E8712F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B5C-BBEA-489F-92D0-CA74BE96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2A7-B12D-440A-BC98-B4E048AC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81C-AA65-4777-A9BF-290D03F5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38F-6037-4BD9-93FC-543E2A50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92A1-03A9-4D14-83A2-20FB1F3522F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A916-746E-44D7-85C1-B21BE2562FB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ropa y accesor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380520" y="1600200"/>
            <a:ext cx="4343400" cy="5029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e620"/>
                </a:solidFill>
                <a:latin typeface="Arial Black"/>
              </a:rPr>
              <a:t>la muchacha lleva la camisa azul y rosa. Ella lleva es blue jea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4164120" cy="52578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3124080" y="152280"/>
            <a:ext cx="17528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bel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ee"/>
                </a:solidFill>
                <a:latin typeface="Arial Black"/>
              </a:rPr>
              <a:t>Patriots bano su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e620"/>
                </a:solidFill>
                <a:latin typeface="Arial Black"/>
              </a:rPr>
              <a:t>La muchacha la lleva el taja de ban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5029200" y="2438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ee"/>
                </a:solidFill>
                <a:latin typeface="Arial Black"/>
              </a:rPr>
              <a:t>Wes welk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4191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e620"/>
                </a:solidFill>
                <a:latin typeface="Arial Black"/>
              </a:rPr>
              <a:t>Wes Welker con su uniforme de patriotas con almohadillas y guant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724280" y="2895480"/>
            <a:ext cx="3915000" cy="25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68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68" fill="hold"/>
                                        <p:tgtEl>
                                          <p:spTgt spid="3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68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3:59:43Z</dcterms:created>
  <dc:creator>saporettijoh</dc:creator>
  <dc:description/>
  <dc:language>en-US</dc:language>
  <cp:lastModifiedBy>saporettijoh</cp:lastModifiedBy>
  <dcterms:modified xsi:type="dcterms:W3CDTF">2011-12-09T14:29:35Z</dcterms:modified>
  <cp:revision>4</cp:revision>
  <dc:subject/>
  <dc:title>La ropa y accesories</dc:title>
</cp:coreProperties>
</file>